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727-A218-44F9-8DA8-70196B4D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632-A3DC-4BC9-8D70-9FB032DA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2C4-5445-4A65-8FC9-5E9B0BDE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5B4-7A52-4A3A-9967-1A4881B7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F9E-8CF0-4513-BE8C-DD06B3C8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C79-5760-476C-AF2D-98DBC1A3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A43-0913-4A00-8433-F0B8C65D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9B9-72FB-4815-8310-7E9C56F3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F79-7CAC-4AF8-8EF2-DA1C6D45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988-5DC4-4D60-BEEA-AB1497F4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B5E-8F53-4E82-802B-71B65017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C29-AB4D-4F4D-823C-142F6980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81A1-C31C-40F4-9E6A-A285F2178F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9720" y="2362320"/>
            <a:ext cx="39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isk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7162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388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7162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391520" cy="118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73915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248520" cy="1076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6248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086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7010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1076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6705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191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71080" y="45720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410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3080" y="5791320"/>
            <a:ext cx="16765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781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0:12Z</dcterms:modified>
  <cp:revision>204</cp:revision>
  <dc:subject/>
  <dc:title>Slide 1</dc:title>
</cp:coreProperties>
</file>